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6.wmf" ContentType="image/x-wmf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3.wmf" ContentType="image/x-wmf"/>
  <Override PartName="/ppt/media/image34.wmf" ContentType="image/x-wmf"/>
  <Override PartName="/ppt/media/image42.jpeg" ContentType="image/jpeg"/>
  <Override PartName="/ppt/media/image35.wmf" ContentType="image/x-wmf"/>
  <Override PartName="/ppt/media/image3.jpeg" ContentType="image/jpeg"/>
  <Override PartName="/ppt/media/image36.wmf" ContentType="image/x-wmf"/>
  <Override PartName="/ppt/media/image8.jpeg" ContentType="image/jpeg"/>
  <Override PartName="/ppt/media/image39.jpeg" ContentType="image/jpeg"/>
  <Override PartName="/ppt/media/image15.wmf" ContentType="image/x-wmf"/>
  <Override PartName="/ppt/media/image41.jpeg" ContentType="image/jpeg"/>
  <Override PartName="/ppt/media/image37.wmf" ContentType="image/x-wmf"/>
  <Override PartName="/ppt/media/image43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74C220-AC0C-4AE0-8766-0D304760E4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87D53B-4508-457C-8777-4172C61063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C7F291-E388-4853-8ACF-00E0EB338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9E3438-2431-46BE-B7CE-0983CFFD5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E2DF79-3079-4A88-80F3-9FAB6FFABA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AFDD6C-6696-4B03-AD42-1722B0128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32F8BC-9632-458C-AF0F-7F8A313BC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5D5F53-AA59-4ACA-94B6-391F60543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7E287B-52DC-4BE0-B5ED-C1AD9880F3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C94AF5-CC03-4619-8EAA-B53C56DAB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0FAA20-006E-4F0A-AE7A-796D2133A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9F6951-9E10-4CBA-B5D1-0526EABAD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B4E659-1BF8-404D-BA32-E4BC8048F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BA4A37-D12F-4937-87DB-C635E7606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90DA14-1E0B-4D95-9153-485A389D8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265FFC-278C-4D73-90AD-5D345EE58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18D592-265D-41DA-8C79-AAB2921E07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1084C2-2BAD-4934-BE16-D3EE47C2C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67347A-4654-43C9-9430-00B91B4DA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7E205E-B500-4D22-BD7C-7B6FC346D9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8037B9-3A77-44FB-920E-E1B266389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6AF362-18E2-41C3-8F32-58F9BAC93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F9F548-9F5B-48EC-A72E-BB3BB4C6A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C2C8B7-4C73-41D8-94C7-FE0664501D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7773D1-DE9F-406E-824D-F5F68B36C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F9431-20A4-4477-97D0-CADD8341B4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21F53-0403-46AD-90DD-DB367966E0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F9F70-FA8E-4688-BF51-15A5BF5A77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C5A5C-79A6-47F0-ACB2-4823DA5011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737C-B3AD-4931-83E1-869B78ABD7F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6396-F279-4137-A69A-CEEED88240A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9496-F710-45B7-87A6-1DADA0C7052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E2EA-609F-44E7-BCC4-C68A17D6017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7742-FD3E-413B-A2DA-248BA35B034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10C1-0AE2-499D-A937-3764C09B339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BA7D-7AD7-4F07-926B-166A741217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B53D8-3D05-4C38-B562-88502363E3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9C44-908E-4E84-B581-DE803674131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EB5C-D33E-4032-A095-63F106AFFA1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B8E2-2987-46A0-ABBC-D7CC5DE7160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7D83-9B52-4176-80E3-097F3F80C44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E2B3-6AAD-46D5-9C98-1E550BF8F4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E1BCC-EF52-4459-A91F-CC6E428EAE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F167D-0EA2-4651-A621-8D324271AC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66221-2E18-4972-9655-AC17E95B53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4238A-F51D-4D8A-9234-F25035520A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CFE0D-D4B2-4886-8981-571F706015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B22E8-0074-48AF-96FE-2965F5160B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882C7-8522-4E4E-A36C-E5CD0D9EE7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3679B-5620-4735-99E9-897AD7676A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B5916-26BB-4930-B74B-D618174A62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27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Organiz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7A407-D73A-4A1C-8B77-EDDA4651E3E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Organization Chart 3"/>
          <p:cNvGrpSpPr/>
          <p:nvPr/>
        </p:nvGrpSpPr>
        <p:grpSpPr>
          <a:xfrm>
            <a:off x="380880" y="1935000"/>
            <a:ext cx="6171840" cy="3773160"/>
            <a:chOff x="380880" y="1935000"/>
            <a:chExt cx="6171840" cy="3773160"/>
          </a:xfrm>
        </p:grpSpPr>
        <p:cxnSp>
          <p:nvCxnSpPr>
            <p:cNvPr id="253" name="_s1029"/>
            <p:cNvCxnSpPr>
              <a:stCxn id="254" idx="1"/>
              <a:endCxn id="255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6" name="_s1031"/>
            <p:cNvCxnSpPr>
              <a:stCxn id="257" idx="3"/>
              <a:endCxn id="255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8" name="_s1032"/>
            <p:cNvCxnSpPr>
              <a:stCxn id="255" idx="0"/>
              <a:endCxn id="259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0" name="_s1034"/>
            <p:cNvCxnSpPr>
              <a:stCxn id="261" idx="0"/>
              <a:endCxn id="262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3" name="_s1035"/>
            <p:cNvCxnSpPr>
              <a:stCxn id="259" idx="0"/>
              <a:endCxn id="262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62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LABORATORY </a:t>
              </a:r>
              <a:br>
                <a:rPr sz="2200"/>
              </a:b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DIRECT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CHARGE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MANAGER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 DIR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SPITAL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E93AD-4437-417E-8B8F-E013438734F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O 15189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 responsibility and authority to overse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s directly to the decision-making level of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AC091-D3EE-412C-A189-4D9BA027352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ur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view all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, coordinate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orm decision m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B6570-7851-4ECA-BDB2-4BCB5C46CFF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lanning for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pproaches vary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with local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y factors influence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tar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include all quality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lements i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y implement in stepwis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0F838-6C17-4906-9994-A48C64BED95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ep in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, be trans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feasible tim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realistic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able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prioritie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ed step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45569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B9255-0B09-438D-83A2-75839D13D5A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 Gap Analys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the gaps, using quality management systems check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task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ioritize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ick fixe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 w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uld have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est positive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24280" y="22860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P ANALYS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724280" y="258768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86B40-AD1F-4619-9C21-87BB4352C86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mmon problem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pl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ing level (competenc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echnical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t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gent and equipmen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51BF2-E791-4326-8737-C14134D1078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7d"/>
                </a:solidFill>
                <a:latin typeface="Verdana"/>
              </a:rPr>
              <a:t>Written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Quality Management System Plan should incl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at should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o will be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en (time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how many resources ar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bench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5105520"/>
            <a:ext cx="868680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ust be available to all sta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7E31F-9533-4C52-942E-8F4022EA9CD8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 to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epare for implementation in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ure resource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use a 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be sure everyone knows their responsi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00007d"/>
                </a:solidFill>
                <a:latin typeface="Verdana"/>
              </a:rPr>
              <a:t>t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886200" y="3657600"/>
            <a:ext cx="3124080" cy="3352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4419720" y="4952880"/>
            <a:ext cx="205740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31128-3099-42B1-B1BB-FD9EE16FEB1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session, you will be able 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organizational elements needed for a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management roles and responsibilities in a qualit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rocess for designing, implementing, maintaining, and improving the laboratory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urpose of a quality man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940E7-5E63-4404-9812-E341A9C7DAA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92921-2F19-40AE-BEDF-EC5974DFE65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vide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requirement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sonnel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itional sta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s, training need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ilities, equipmen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lies,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5638680" y="4267080"/>
            <a:ext cx="1795680" cy="18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5A52E-0505-499C-88E1-51E01FD2F60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nitoring Compli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velop indica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stablish monitoring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nduct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agement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867280" y="1295280"/>
            <a:ext cx="293868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0851A-1DF9-45BF-AF51-BF93471F41F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94B2A-C3CE-4D54-B501-9AF424DAB43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304920" y="457200"/>
            <a:ext cx="6705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What is a Quality Manu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 document describing the quality management system of an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sential organizational st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ement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69DFB-D2B3-4951-9A82-1A80AB8E1AB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unicate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erves as a framework for meeting quality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monstrates management’s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280FC-B8A1-4A1E-8882-50B38DCD4D3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intaining the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unicates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s management appro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quires upd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419720" y="289548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1B9B2-8E58-4F1E-ADC0-03687660195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ccessful implementation requi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management c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understanding the benefits of a quality managem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ngaging staff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striving to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continually im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realistic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17173-033C-4023-A137-3A1773CAD44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5620680" y="2752200"/>
            <a:ext cx="3161880" cy="3371400"/>
            <a:chOff x="5620680" y="2752200"/>
            <a:chExt cx="3161880" cy="3371400"/>
          </a:xfrm>
        </p:grpSpPr>
        <p:sp>
          <p:nvSpPr>
            <p:cNvPr id="330" name="_s195610"/>
            <p:cNvSpPr/>
            <p:nvPr/>
          </p:nvSpPr>
          <p:spPr>
            <a:xfrm>
              <a:off x="6339600" y="2752200"/>
              <a:ext cx="1722960" cy="2397600"/>
            </a:xfrm>
            <a:custGeom>
              <a:avLst/>
              <a:gdLst>
                <a:gd name="textAreaLeft" fmla="*/ 0 w 1722960"/>
                <a:gd name="textAreaRight" fmla="*/ 1723320 w 1722960"/>
                <a:gd name="textAreaTop" fmla="*/ 0 h 2397600"/>
                <a:gd name="textAreaBottom" fmla="*/ 2397960 h 239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195611"/>
            <p:cNvSpPr/>
            <p:nvPr/>
          </p:nvSpPr>
          <p:spPr>
            <a:xfrm rot="7200000">
              <a:off x="6238080" y="3655800"/>
              <a:ext cx="2397600" cy="172332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3320"/>
                <a:gd name="textAreaBottom" fmla="*/ 1723680 h 17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95613"/>
            <p:cNvSpPr/>
            <p:nvPr/>
          </p:nvSpPr>
          <p:spPr>
            <a:xfrm rot="14400000">
              <a:off x="5767200" y="3658680"/>
              <a:ext cx="2397600" cy="172296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2960"/>
                <a:gd name="textAreaBottom" fmla="*/ 1723320 h 172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52280" y="5335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D6296-8D35-4F1A-8AAE-73CFE4687A4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ocat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nd distribute a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compliance with quality management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E153E-179E-402F-8A74-E697468BFEA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1066680"/>
            <a:ext cx="5181480" cy="5410080"/>
            <a:chOff x="2133720" y="1066680"/>
            <a:chExt cx="5181480" cy="5410080"/>
          </a:xfrm>
        </p:grpSpPr>
        <p:sp>
          <p:nvSpPr>
            <p:cNvPr id="133" name="AutoShape 4"/>
            <p:cNvSpPr/>
            <p:nvPr/>
          </p:nvSpPr>
          <p:spPr>
            <a:xfrm>
              <a:off x="213372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159200"/>
              <a:ext cx="1261800" cy="1189800"/>
              <a:chOff x="2438280" y="115920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159200"/>
                <a:ext cx="1239120" cy="1189800"/>
                <a:chOff x="2438280" y="115920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159200"/>
                  <a:ext cx="1152360" cy="1189800"/>
                  <a:chOff x="2489760" y="115920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159200"/>
              <a:ext cx="1239840" cy="1189800"/>
              <a:chOff x="4094280" y="115920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159200"/>
              <a:ext cx="1239840" cy="1189800"/>
              <a:chOff x="5694480" y="115920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159200"/>
                <a:ext cx="1153080" cy="1189800"/>
                <a:chOff x="5739840" y="115920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98760"/>
              <a:ext cx="1241280" cy="1189440"/>
              <a:chOff x="2438280" y="249876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516760"/>
              <a:ext cx="1336680" cy="1189440"/>
              <a:chOff x="5638680" y="251676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858120"/>
              <a:ext cx="1239840" cy="1191240"/>
              <a:chOff x="2438280" y="3858120"/>
              <a:chExt cx="1239840" cy="119124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858120"/>
              <a:ext cx="1239840" cy="1191240"/>
              <a:chOff x="4094280" y="3858120"/>
              <a:chExt cx="1239840" cy="119124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207040"/>
              <a:ext cx="1420560" cy="1189440"/>
              <a:chOff x="2362320" y="520704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139000"/>
              <a:ext cx="1239840" cy="1189800"/>
              <a:chOff x="4094280" y="513900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207040"/>
              <a:ext cx="1239840" cy="1189440"/>
              <a:chOff x="5715000" y="520704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561A7-DCA5-4CAD-A856-715D3F5DEF1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m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is not a scienc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’s a way of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en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oday t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ain rewards tomorr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essional, personal 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er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6509D-AC0A-4683-9C65-0F1A49EBAF1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o is Responsible for Quali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EVERYON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618DB-6097-46F6-A4CD-C59FE879AEC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867280" y="1904760"/>
            <a:ext cx="2895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486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57200" y="533520"/>
            <a:ext cx="5181480" cy="5409720"/>
            <a:chOff x="457200" y="533520"/>
            <a:chExt cx="5181480" cy="5409720"/>
          </a:xfrm>
        </p:grpSpPr>
        <p:sp>
          <p:nvSpPr>
            <p:cNvPr id="357" name="AutoShape 4"/>
            <p:cNvSpPr/>
            <p:nvPr/>
          </p:nvSpPr>
          <p:spPr>
            <a:xfrm>
              <a:off x="457200" y="5335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9"/>
            <p:cNvSpPr/>
            <p:nvPr/>
          </p:nvSpPr>
          <p:spPr>
            <a:xfrm>
              <a:off x="2701800" y="33811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1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2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6"/>
            <p:cNvSpPr/>
            <p:nvPr/>
          </p:nvSpPr>
          <p:spPr>
            <a:xfrm>
              <a:off x="1336680" y="27392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2"/>
            <p:cNvSpPr/>
            <p:nvPr/>
          </p:nvSpPr>
          <p:spPr>
            <a:xfrm>
              <a:off x="1325520" y="26762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24"/>
            <p:cNvSpPr/>
            <p:nvPr/>
          </p:nvSpPr>
          <p:spPr>
            <a:xfrm flipH="1" flipV="1">
              <a:off x="3111120" y="55400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25"/>
            <p:cNvSpPr/>
            <p:nvPr/>
          </p:nvSpPr>
          <p:spPr>
            <a:xfrm flipV="1">
              <a:off x="2849400" y="43689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7"/>
            <p:cNvSpPr/>
            <p:nvPr/>
          </p:nvSpPr>
          <p:spPr>
            <a:xfrm>
              <a:off x="4647960" y="11995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27"/>
            <p:cNvSpPr/>
            <p:nvPr/>
          </p:nvSpPr>
          <p:spPr>
            <a:xfrm>
              <a:off x="3047760" y="13586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27"/>
            <p:cNvSpPr/>
            <p:nvPr/>
          </p:nvSpPr>
          <p:spPr>
            <a:xfrm>
              <a:off x="1371600" y="14083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27"/>
            <p:cNvSpPr/>
            <p:nvPr/>
          </p:nvSpPr>
          <p:spPr>
            <a:xfrm flipH="1">
              <a:off x="1066320" y="12474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65"/>
            <p:cNvGrpSpPr/>
            <p:nvPr/>
          </p:nvGrpSpPr>
          <p:grpSpPr>
            <a:xfrm>
              <a:off x="761760" y="626040"/>
              <a:ext cx="1261800" cy="1189800"/>
              <a:chOff x="761760" y="626040"/>
              <a:chExt cx="1261800" cy="1189800"/>
            </a:xfrm>
          </p:grpSpPr>
          <p:grpSp>
            <p:nvGrpSpPr>
              <p:cNvPr id="372" name="Group 66"/>
              <p:cNvGrpSpPr/>
              <p:nvPr/>
            </p:nvGrpSpPr>
            <p:grpSpPr>
              <a:xfrm>
                <a:off x="761760" y="626040"/>
                <a:ext cx="1239120" cy="1189800"/>
                <a:chOff x="761760" y="626040"/>
                <a:chExt cx="1239120" cy="1189800"/>
              </a:xfrm>
            </p:grpSpPr>
            <p:grpSp>
              <p:nvGrpSpPr>
                <p:cNvPr id="373" name="Group 67"/>
                <p:cNvGrpSpPr/>
                <p:nvPr/>
              </p:nvGrpSpPr>
              <p:grpSpPr>
                <a:xfrm>
                  <a:off x="813240" y="626040"/>
                  <a:ext cx="1152360" cy="1189800"/>
                  <a:chOff x="813240" y="626040"/>
                  <a:chExt cx="1152360" cy="1189800"/>
                </a:xfrm>
              </p:grpSpPr>
              <p:sp>
                <p:nvSpPr>
                  <p:cNvPr id="374" name="Freeform 68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69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6" name="Text Box 70"/>
                <p:cNvSpPr/>
                <p:nvPr/>
              </p:nvSpPr>
              <p:spPr>
                <a:xfrm>
                  <a:off x="761760" y="9003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Text Box 71"/>
              <p:cNvSpPr/>
              <p:nvPr/>
            </p:nvSpPr>
            <p:spPr>
              <a:xfrm>
                <a:off x="784440" y="10479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72"/>
            <p:cNvGrpSpPr/>
            <p:nvPr/>
          </p:nvGrpSpPr>
          <p:grpSpPr>
            <a:xfrm>
              <a:off x="2417760" y="626040"/>
              <a:ext cx="1239840" cy="1189800"/>
              <a:chOff x="2417760" y="626040"/>
              <a:chExt cx="1239840" cy="1189800"/>
            </a:xfrm>
          </p:grpSpPr>
          <p:sp>
            <p:nvSpPr>
              <p:cNvPr id="379" name="Freeform 73"/>
              <p:cNvSpPr/>
              <p:nvPr/>
            </p:nvSpPr>
            <p:spPr>
              <a:xfrm>
                <a:off x="2458440" y="6260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74"/>
              <p:cNvSpPr/>
              <p:nvPr/>
            </p:nvSpPr>
            <p:spPr>
              <a:xfrm>
                <a:off x="2417760" y="10479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75"/>
            <p:cNvGrpSpPr/>
            <p:nvPr/>
          </p:nvGrpSpPr>
          <p:grpSpPr>
            <a:xfrm>
              <a:off x="4017960" y="626040"/>
              <a:ext cx="1239840" cy="1189800"/>
              <a:chOff x="4017960" y="626040"/>
              <a:chExt cx="1239840" cy="1189800"/>
            </a:xfrm>
          </p:grpSpPr>
          <p:grpSp>
            <p:nvGrpSpPr>
              <p:cNvPr id="382" name="Group 76"/>
              <p:cNvGrpSpPr/>
              <p:nvPr/>
            </p:nvGrpSpPr>
            <p:grpSpPr>
              <a:xfrm>
                <a:off x="4063320" y="626040"/>
                <a:ext cx="1153080" cy="1189800"/>
                <a:chOff x="4063320" y="626040"/>
                <a:chExt cx="1153080" cy="1189800"/>
              </a:xfrm>
            </p:grpSpPr>
            <p:sp>
              <p:nvSpPr>
                <p:cNvPr id="383" name="Freeform 77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78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Text Box 79"/>
              <p:cNvSpPr/>
              <p:nvPr/>
            </p:nvSpPr>
            <p:spPr>
              <a:xfrm>
                <a:off x="4017960" y="10522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Line 27"/>
            <p:cNvSpPr/>
            <p:nvPr/>
          </p:nvSpPr>
          <p:spPr>
            <a:xfrm flipH="1">
              <a:off x="1142640" y="2600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61760" y="1965600"/>
              <a:ext cx="1241280" cy="1189440"/>
              <a:chOff x="761760" y="1965600"/>
              <a:chExt cx="1241280" cy="1189440"/>
            </a:xfrm>
          </p:grpSpPr>
          <p:sp>
            <p:nvSpPr>
              <p:cNvPr id="388" name="Freeform 46"/>
              <p:cNvSpPr/>
              <p:nvPr/>
            </p:nvSpPr>
            <p:spPr>
              <a:xfrm>
                <a:off x="766440" y="19656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 Box 47"/>
              <p:cNvSpPr/>
              <p:nvPr/>
            </p:nvSpPr>
            <p:spPr>
              <a:xfrm>
                <a:off x="761760" y="22521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Freeform 31"/>
            <p:cNvSpPr/>
            <p:nvPr/>
          </p:nvSpPr>
          <p:spPr>
            <a:xfrm>
              <a:off x="2466720" y="20282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43"/>
            <p:cNvSpPr/>
            <p:nvPr/>
          </p:nvSpPr>
          <p:spPr>
            <a:xfrm>
              <a:off x="2506680" y="20448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3962160" y="1983600"/>
              <a:ext cx="1336680" cy="1189440"/>
              <a:chOff x="3962160" y="1983600"/>
              <a:chExt cx="1336680" cy="1189440"/>
            </a:xfrm>
          </p:grpSpPr>
          <p:sp>
            <p:nvSpPr>
              <p:cNvPr id="393" name="Freeform 48"/>
              <p:cNvSpPr/>
              <p:nvPr/>
            </p:nvSpPr>
            <p:spPr>
              <a:xfrm>
                <a:off x="4038480" y="19836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55"/>
              <p:cNvSpPr/>
              <p:nvPr/>
            </p:nvSpPr>
            <p:spPr>
              <a:xfrm>
                <a:off x="3962160" y="22834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Line 27"/>
            <p:cNvSpPr/>
            <p:nvPr/>
          </p:nvSpPr>
          <p:spPr>
            <a:xfrm flipH="1">
              <a:off x="1066320" y="38750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761760" y="3324600"/>
              <a:ext cx="1239840" cy="1190880"/>
              <a:chOff x="761760" y="3324600"/>
              <a:chExt cx="1239840" cy="1190880"/>
            </a:xfrm>
          </p:grpSpPr>
          <p:sp>
            <p:nvSpPr>
              <p:cNvPr id="397" name="Freeform 81"/>
              <p:cNvSpPr/>
              <p:nvPr/>
            </p:nvSpPr>
            <p:spPr>
              <a:xfrm>
                <a:off x="793800" y="33246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82"/>
              <p:cNvSpPr/>
              <p:nvPr/>
            </p:nvSpPr>
            <p:spPr>
              <a:xfrm>
                <a:off x="761760" y="35564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2417760" y="3324600"/>
              <a:ext cx="1239840" cy="1190880"/>
              <a:chOff x="2417760" y="3324600"/>
              <a:chExt cx="1239840" cy="1190880"/>
            </a:xfrm>
          </p:grpSpPr>
          <p:sp>
            <p:nvSpPr>
              <p:cNvPr id="400" name="Freeform 30"/>
              <p:cNvSpPr/>
              <p:nvPr/>
            </p:nvSpPr>
            <p:spPr>
              <a:xfrm>
                <a:off x="2444760" y="33246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54"/>
              <p:cNvSpPr/>
              <p:nvPr/>
            </p:nvSpPr>
            <p:spPr>
              <a:xfrm>
                <a:off x="2417760" y="3574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Freeform 50"/>
            <p:cNvSpPr/>
            <p:nvPr/>
          </p:nvSpPr>
          <p:spPr>
            <a:xfrm>
              <a:off x="4038480" y="33177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51"/>
            <p:cNvSpPr/>
            <p:nvPr/>
          </p:nvSpPr>
          <p:spPr>
            <a:xfrm>
              <a:off x="4017960" y="33976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7"/>
            <p:cNvSpPr/>
            <p:nvPr/>
          </p:nvSpPr>
          <p:spPr>
            <a:xfrm flipH="1">
              <a:off x="1142640" y="52257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85800" y="4673520"/>
              <a:ext cx="1420560" cy="1189440"/>
              <a:chOff x="685800" y="4673520"/>
              <a:chExt cx="1420560" cy="1189440"/>
            </a:xfrm>
          </p:grpSpPr>
          <p:sp>
            <p:nvSpPr>
              <p:cNvPr id="406" name="Freeform 57"/>
              <p:cNvSpPr/>
              <p:nvPr/>
            </p:nvSpPr>
            <p:spPr>
              <a:xfrm>
                <a:off x="834840" y="46735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8"/>
              <p:cNvSpPr/>
              <p:nvPr/>
            </p:nvSpPr>
            <p:spPr>
              <a:xfrm>
                <a:off x="685800" y="49086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417760" y="4605480"/>
              <a:ext cx="1239840" cy="1189800"/>
              <a:chOff x="2417760" y="4605480"/>
              <a:chExt cx="1239840" cy="1189800"/>
            </a:xfrm>
          </p:grpSpPr>
          <p:sp>
            <p:nvSpPr>
              <p:cNvPr id="409" name="Freeform 34"/>
              <p:cNvSpPr/>
              <p:nvPr/>
            </p:nvSpPr>
            <p:spPr>
              <a:xfrm>
                <a:off x="2466720" y="46054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Text Box 61"/>
              <p:cNvSpPr/>
              <p:nvPr/>
            </p:nvSpPr>
            <p:spPr>
              <a:xfrm>
                <a:off x="2417760" y="49086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4038480" y="4673520"/>
              <a:ext cx="1239840" cy="1189440"/>
              <a:chOff x="4038480" y="4673520"/>
              <a:chExt cx="1239840" cy="1189440"/>
            </a:xfrm>
          </p:grpSpPr>
          <p:sp>
            <p:nvSpPr>
              <p:cNvPr id="412" name="Freeform 63"/>
              <p:cNvSpPr/>
              <p:nvPr/>
            </p:nvSpPr>
            <p:spPr>
              <a:xfrm>
                <a:off x="4057560" y="46735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64"/>
              <p:cNvSpPr/>
              <p:nvPr/>
            </p:nvSpPr>
            <p:spPr>
              <a:xfrm>
                <a:off x="4038480" y="49086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764C1-C899-4638-BDE3-2040A92049E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3657600" y="3581280"/>
            <a:ext cx="3962160" cy="2079000"/>
            <a:chOff x="3657600" y="3581280"/>
            <a:chExt cx="3962160" cy="2079000"/>
          </a:xfrm>
        </p:grpSpPr>
        <p:cxnSp>
          <p:nvCxnSpPr>
            <p:cNvPr id="191" name="_s7194"/>
            <p:cNvCxnSpPr>
              <a:stCxn id="192" idx="0"/>
              <a:endCxn id="19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7193"/>
            <p:cNvCxnSpPr>
              <a:stCxn id="195" idx="0"/>
              <a:endCxn id="19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_s7192"/>
            <p:cNvCxnSpPr>
              <a:stCxn id="197" idx="0"/>
              <a:endCxn id="19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senti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1295280"/>
            <a:ext cx="5791320" cy="20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ment committed to a quality managemen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organizational structure designed to assure quality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73141-CC59-4B61-BD7D-C9B5D38373C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lanning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nitor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d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304920 w 914400"/>
              <a:gd name="textAreaRight" fmla="*/ 783360 w 914400"/>
              <a:gd name="textAreaTop" fmla="*/ 570600 h 990720"/>
              <a:gd name="textAreaBottom" fmla="*/ 84852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08" name="_s8230"/>
            <p:cNvCxnSpPr>
              <a:stCxn id="209" idx="0"/>
              <a:endCxn id="210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1" name="_s8229"/>
            <p:cNvCxnSpPr>
              <a:stCxn id="212" idx="0"/>
              <a:endCxn id="210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_s8228"/>
            <p:cNvCxnSpPr>
              <a:stCxn id="214" idx="0"/>
              <a:endCxn id="210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0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adership, Managerial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rganizational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327960 w 1143000"/>
              <a:gd name="textAreaRight" fmla="*/ 979200 w 1143000"/>
              <a:gd name="textAreaTop" fmla="*/ 1009440 h 1752480"/>
              <a:gd name="textAreaBottom" fmla="*/ 150120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B57EF-0091-473C-8073-377B31C58E1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d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ercising respon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thority, wh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ing motiv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luencing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couraging staf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good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B2449-4605-4B08-8E7B-C34906AC213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 and continuously improve the quality management syste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c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all personne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ty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5029200" cy="32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81E16-FA5E-4248-B2D1-6B51BE1E6DB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Commi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 Black"/>
              </a:rPr>
              <a:t>Ministry of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1219320"/>
            <a:ext cx="3276720" cy="45972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233" name="PubOvalCallout"/>
          <p:cNvSpPr/>
          <p:nvPr/>
        </p:nvSpPr>
        <p:spPr>
          <a:xfrm rot="16200000">
            <a:off x="3848040" y="3924000"/>
            <a:ext cx="2057400" cy="3048120"/>
          </a:xfrm>
          <a:custGeom>
            <a:avLst/>
            <a:gdLst>
              <a:gd name="textAreaLeft" fmla="*/ 301320 w 2057400"/>
              <a:gd name="textAreaRight" fmla="*/ 1756080 w 2057400"/>
              <a:gd name="textAreaTop" fmla="*/ 334800 h 3048120"/>
              <a:gd name="textAreaBottom" fmla="*/ 1952640 h 304812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f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39E4E-8CC7-4FB6-8974-507A781D3197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rganizational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600200"/>
            <a:ext cx="77724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 working structure t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ensures sufficiency at all parts in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laboratory work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responsibilities and roles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develop an organization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a Quality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cate sufficient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0195D-C043-41F1-A912-9C2D26CAA97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32Z</dcterms:modified>
  <cp:revision>124</cp:revision>
  <dc:subject/>
  <dc:title>Slide 1</dc:title>
</cp:coreProperties>
</file>